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A5A7-C7F3-497D-9881-BF298C21D6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F77-5FFE-4406-84BF-86708470316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A675-AFC4-4472-8D7A-62B7F7E829D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5094-F803-48B8-9ABE-47645777460B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7A3A-D9B6-4765-871B-383CAAEA226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A4EA-CE17-4096-B34C-0135417FBFB1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99C7-136E-4943-9837-07D25A5A4EC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FE89-D872-4FBE-8905-78037097C5D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FA2C-79B6-431E-A9EE-55AF15E3900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FB14-F5F4-4427-A1EC-F41720A1BF9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495-F4AA-4293-AFCE-45A575A11B16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D81F-5639-4011-B1D9-59F81A0C4B2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CE9C-70BF-42A5-A4E0-BC2638E4675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5721-149B-42FF-BBE2-E25AEF84EE3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34D-A8D2-49AD-BCD3-76D4217FD64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AE19-6092-439A-B3F2-097C5E1EC81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7A43-9878-4891-9B0E-478BF60C81C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43F3-5347-454A-ADE2-9668FC684CA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C189-6175-41B0-BF12-A0BAFEEC1CD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334-5DBC-4921-BAF3-F0AD5576D54B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D9A-FCCD-4155-885D-516A026B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B4B-F4E6-41F3-958B-43DC63F0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93C-DB74-42C4-9FAB-9A6821C3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0D6-E6FE-42F2-9D3C-BB1EA9B3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C95F-7750-4D71-A127-B559DACA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068E-2AD9-469F-9DEA-E89F244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8C95-D382-494C-BBE4-483D4BB8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B67A-CB63-4D67-80BA-B9E91F3C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CC00-8C9B-422D-988E-9E580C4B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7437-42A1-4F1F-A282-27E23AEF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7F47-8504-4FCD-AAA0-FC4722B1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C75-EA4F-4408-A53D-777850B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45DC-AA47-44EB-A19F-860AEF3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5320-CD80-46B7-A92E-0DBA6734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353C-2BF6-40CE-9685-0F7B95FF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9548-3BAD-4C77-A517-90C1AF27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1C3-3B81-473A-A791-D16C76A1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022-B1C3-47C6-B089-D48BC1E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16B-BF96-4864-A64E-D3B6BC07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518-EE2C-4444-87A7-9D9861E4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7AB-9B70-48B2-86E9-00200D7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A01-EB70-4ACD-8D08-24EFD5BB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F45-0363-4F27-AE30-4D9E534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52E-3DE8-4C73-8ABA-C47E272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8E1E-D755-4AEE-868F-9E9573859A0C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9225-5486-45B1-B348-2DE71005883D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oblomov.omsk.edu/win/geroi/oblomov" TargetMode="External"/><Relationship Id="rId3" Type="http://schemas.openxmlformats.org/officeDocument/2006/relationships/hyperlink" Target="http://oblomov.omsk.edu/win/geroi/shtol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2680" y="1356840"/>
            <a:ext cx="623412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2f00"/>
                </a:solidFill>
                <a:latin typeface="Times New Roman"/>
              </a:rPr>
              <a:t>ОБЛОМОВ И ШТОЛЬЦ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5" descr="BS00554_"/>
          <p:cNvPicPr/>
          <p:nvPr/>
        </p:nvPicPr>
        <p:blipFill>
          <a:blip r:embed="rId1"/>
          <a:stretch/>
        </p:blipFill>
        <p:spPr>
          <a:xfrm>
            <a:off x="6156360" y="4508640"/>
            <a:ext cx="2376360" cy="207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189000"/>
          <a:ext cx="8569440" cy="6476760"/>
        </p:xfrm>
        <a:graphic>
          <a:graphicData uri="http://schemas.openxmlformats.org/drawingml/2006/table">
            <a:tbl>
              <a:tblPr/>
              <a:tblGrid>
                <a:gridCol w="4286160"/>
                <a:gridCol w="4283280"/>
              </a:tblGrid>
              <a:tr h="133056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43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Я – барин, и делать      ничего не умею.”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ка-идеал жизни. Любовь и        ласка родных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трудовое, практи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ческое воспитание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некому благос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ить”; возможность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самостоятельно определить свою дорогу жиз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56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Антипод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836640"/>
          <a:ext cx="9144000" cy="5769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Цель жизни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6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оэтический идеал жизни;” цель была -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вся жизнь есть мысль и труд”;   Сейчас:”Какая у меня цель? Нет её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руд-цель жизни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жизнь Штольца с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очки зрения Об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мова :”ежедневна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устая перетасовк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ней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2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798480"/>
          <a:ext cx="9144000" cy="6059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держание деятельности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ставление плана переустройства поместья; “вулканическая работа пылкой головы”;  “не привык к движению.”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Лишних движений у него не было”;”ехал посидеть на широком диване Обломова и отвести и успокоить встревоженную или усталую душу…”пустая су-ета, в итоге-“как будто жил вторично</a:t>
                      </a:r>
                      <a:r>
                        <a:rPr b="0" lang="en-US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Двойник в большей степе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692280"/>
          <a:ext cx="9144000" cy="59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тношение к женщине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е был их рабом, поклонялся издали”;”признавал е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власть и права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женщина-мать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икогда - любовница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Сама жизнь и труд есть цель жизни, а не женщина”;”он не хотел бы порывистой страсти, как не хотел её Обломов”; “ему грезилась мать - созида-тельница”; “не был рабом, не испытывал огненных радостей</a:t>
                      </a:r>
                      <a:r>
                        <a:rPr b="0" lang="en-US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.</a:t>
                      </a:r>
                      <a:endParaRPr b="0" lang="en-US" sz="2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0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Семейная жизнь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Жена, дети, добрые соседи, хлопоты по хозяйству – это в мечтах; “ему некуда больше идти, нечего искать, идеал его жизни осуществился, хотя без поэзии”-жизнь с Пшеницыной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астала и тишина,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улеглись и порывы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сё как мечтал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.” Устроенный Штольцем тихий уголок на крымском берегу напоминает старую Обломовку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728640"/>
          <a:ext cx="9144000" cy="6129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Жизненная позиция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“…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уша не рвётся, ум спит спокойно.</a:t>
                      </a:r>
                      <a:r>
                        <a:rPr b="0" lang="en-US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мы не титаны…мы не пойдём на дерзкую борьбу с мятежными вопросами, не примем их вызова, склоним головы и  смиренно переживем трудную минуту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ния отношений Обломова и Штольца (в форме графика)"/>
          <p:cNvPicPr/>
          <p:nvPr/>
        </p:nvPicPr>
        <p:blipFill>
          <a:blip r:embed="rId1"/>
          <a:stretch/>
        </p:blipFill>
        <p:spPr>
          <a:xfrm>
            <a:off x="2195640" y="836640"/>
            <a:ext cx="4752720" cy="30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547640" y="3933720"/>
          <a:ext cx="6840720" cy="274320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36828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Обломо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Штоль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146556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обрый, мягк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гостеприи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чувствительный, чутки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Ленив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Откровенный, холод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активный, разу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сдержанны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еятельн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916920"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Идеальным человеком принято считать того, у кого доминирующие качества не слишком ярко выражены (не доставляют проблем окружающим).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3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0920" y="691920"/>
            <a:ext cx="81565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бломов и Штольц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— люди с разным мировосприятием, а следовательно, и разными судьбами. Главное их отличие в том, что деятельный, энергичный Штольц сумел правильно распорядиться своей жизнью и природными талантами, пытаясь «донести сосуд жизни до последнего дня, не пролив ни одной капли напрасно». А у мягкого, доверчивого Обломова не хватало силы воли противостоять трудностям жизни и отстаивать свое право на существование и самореализацию. Он «свое уменье затерял еще в детстве, в Обломовке, среди теток, нянек и дядек. Началось с неуменья надевать чулки и кончилось неуменьем жить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2" descr="Кадр из фильма А. А. Адабашьяна и Н. С. Михалкова «Несколько дней из жизни И. И. Обломова». 1979-80"/>
          <p:cNvPicPr/>
          <p:nvPr/>
        </p:nvPicPr>
        <p:blipFill>
          <a:blip r:embed="rId1"/>
          <a:stretch/>
        </p:blipFill>
        <p:spPr>
          <a:xfrm>
            <a:off x="2627280" y="378936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267920"/>
            <a:ext cx="8370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ломов и Штольц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это два человека, которые друг без друга существовать не могут. Они дополняют друг друга своими как отрицательными, как и положительными качествами. Их судьбы похожи, они не могут найти свое место в жизн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Штольц на высокой ступени своей активной жизни оказывался тем же Обломовым…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a40400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Я.И.Кулешов.)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ь причины столь крепкой дружбы между двумя совершенно противоположными героям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ать описание главных героев романа И.А. Гончарова «Обломов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айти различные и схожие черты этих герое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ставить схему взаимоотношений Обломова и Штольца на протяжении развития действия  роман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лья Ильич Облом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81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мещик, дворянин, живущий в Петербурге. Ведёт ленивый образ жизни, не занимаясь ничем, кроме рассуждени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Жизнь есть поэзия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го не любишь, кто не хорош, с тем не обмакнёшь хлеба в солонк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Всё знаю, всё понимаю - но силы и воли не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Трудно быть умным и искренним в одно время, особенно в чувств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Страсть надо ограничить: задушить и утопить в женитьб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907920"/>
            <a:ext cx="81550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жить жизнь счастливо; так, чтобы она “не трогала”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осприятие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олеблющееся — от “приятного дара для наслаждения” до “пристает как забияки: то ущипнет исподтишка, то вдруг нагрянет прямо со лба и обсыплет песком… мочи нет!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Принципы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елать, что душа и сердце пожелает, даже если разум против; никогда не утруждатьс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Любовь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Никогда не была главной в его жизни, даже в истории с Ольгой она быстро угас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Дружба.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ще в юности “холодно простился с толпой друзей”. Есть знакомые, но нет ни одного настоящего друга, кроме Штольц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тношения с окружающими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Мало кому известен, имеет очень узкий круг общения. Сам практически никого не знает. Тем не менее, имеет знакомых, пытающихся вытащить его в свет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Больше всего боялся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всего трудного и труднодостижимого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stihi.ru/pics/2010/05/08/4169.jpg"/>
          <p:cNvPicPr/>
          <p:nvPr/>
        </p:nvPicPr>
        <p:blipFill>
          <a:blip r:embed="rId1"/>
          <a:stretch/>
        </p:blipFill>
        <p:spPr>
          <a:xfrm>
            <a:off x="4356000" y="2637000"/>
            <a:ext cx="453096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libvrn.ru/OZ/Graphic/book/01_2.jpg"/>
          <p:cNvPicPr/>
          <p:nvPr/>
        </p:nvPicPr>
        <p:blipFill>
          <a:blip r:embed="rId2"/>
          <a:stretch/>
        </p:blipFill>
        <p:spPr>
          <a:xfrm>
            <a:off x="250920" y="1052640"/>
            <a:ext cx="418932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proza.ru/pics/2009/05/06/855.jpg"/>
          <p:cNvPicPr/>
          <p:nvPr/>
        </p:nvPicPr>
        <p:blipFill>
          <a:blip r:embed="rId3"/>
          <a:stretch/>
        </p:blipFill>
        <p:spPr>
          <a:xfrm>
            <a:off x="0" y="0"/>
            <a:ext cx="555480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www.taday.ru/data/170/641/1234/19390_Oblomov_CD2_02.jpg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Штольц Андрей Иванови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915920"/>
            <a:ext cx="8137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руг детства Обломова, наполовину немец, практичный и деятельны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Это не жизнь, это какая-то... обломовщин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 (ч.2, гл.4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Труд - образ, содержание, стихия и цель жизни. По крайней мере, мое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“труд — образ, содержание, стихия и цель жизни, по крайней мере моей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Восприятие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жизнь — счастье в труде; жизнь без работы — не жизнь; «…“жизнь трогает!” “И слава богу!” — сказал Штольц»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Принципы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иметь “простой, то есть прямой, настоящий взгляд на жизнь — вот что было его постоянною задачею…”,“Выше всего он ставил настойчивость в достижении целей…”, “…измерит бездну или стену, и если нет верного средства одолеть, он отойдет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Любовь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Штольц любил не сердцем, а разумом, в каждом движении души и сердца искал рациональное объяснение. Поэтому и в молодости “среди увлечения чувствовал землю под ногой”, так как везде искал ум, а не страсть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Дружба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Друзей у Штольца всегда и везде было много — люди тянулись к нему. Но он чувствовал близость только к людям-личностям, искренним и порядочным. Действительно, настоящих друзей, таких как Илья Ильич и Ольга Сергеевна, у него было не так уж и много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Отношения с окружающими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Все знают его, он знает всех. Он никого не оставляет к себе равнодушным — его или уважают и ценят или боятся и ненавидят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Больше всего боялся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того, что ему непонятно или недоступно, и всячески обходил это: от страстей до воображения; но при любом подходящем случае пытался найти ключ к этому, пока непостижимому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live4fun.ru/pictures/img_37744038_8558_1.jpg"/>
          <p:cNvPicPr/>
          <p:nvPr/>
        </p:nvPicPr>
        <p:blipFill>
          <a:blip r:embed="rId1"/>
          <a:stretch/>
        </p:blipFill>
        <p:spPr>
          <a:xfrm>
            <a:off x="4335480" y="0"/>
            <a:ext cx="480852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www.ljplus.ru/img4/p/i/pics3000/Oblomov-2.avi_snapshot_00.52.38__2010.11.30_23.21.10_.jpg"/>
          <p:cNvPicPr/>
          <p:nvPr/>
        </p:nvPicPr>
        <p:blipFill>
          <a:blip r:embed="rId2"/>
          <a:stretch/>
        </p:blipFill>
        <p:spPr>
          <a:xfrm>
            <a:off x="4227480" y="3141720"/>
            <a:ext cx="4916520" cy="371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.labirint.ru/images/news/5541_1279280583.jpg"/>
          <p:cNvPicPr/>
          <p:nvPr/>
        </p:nvPicPr>
        <p:blipFill>
          <a:blip r:embed="rId3"/>
          <a:stretch/>
        </p:blipFill>
        <p:spPr>
          <a:xfrm>
            <a:off x="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Alexsandrit</cp:lastModifiedBy>
  <dcterms:modified xsi:type="dcterms:W3CDTF">2014-01-17T22:39:35Z</dcterms:modified>
  <cp:revision>30</cp:revision>
  <dc:subject/>
  <dc:title>ОБЛОМОВ И ШТОЛЬЦ</dc:title>
</cp:coreProperties>
</file>